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16C30-D0C3-44C6-AFDB-84A17B763D6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4F41B-5DEE-4197-9600-504BAD67F55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4C574-89FB-48C1-AF97-594C194F482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E68C0-1B5A-4E7D-A7AA-254D4F18BC7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8F61D-0A30-49CC-B0AF-4CC4FFC868D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65290-6C80-4928-8F4F-10EDEE3073B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5AC47-55A3-47E8-A92E-775545BF5B1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CA017-727D-4828-9B96-3191650C027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A7E90-A605-48E3-8A20-91EF22C383F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20D88-3AEB-4903-8AC4-68BAA74762F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6CD3E-AEBA-408F-9ADA-5143AE1D46A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88FF8-B084-4915-A3F8-D1484FB9F56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6295F-E0C5-4A9D-9143-EA25ED5B656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48646-01FF-4C50-A1F4-29BD40F8C08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F18F7-A59A-4ECB-8CAF-A2FC79D4212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CA088-44B1-49CB-BE9E-8341442C184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3A9A-3F4A-4071-8CDE-092E44011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8D4A-7DE9-4E71-B4A6-0DA3F635F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327C-5950-4C2A-AFAF-CF43BBE7E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284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36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C226-4FE5-4FD6-BA74-EDF1C792D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C685B-2FA1-4B3B-A54C-A269B78C4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A70E5-455C-49CF-A1BC-BD758F79D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E4A07-938C-4FF2-84F2-469C79865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70E93-2A8F-420D-81A4-3522E1D4E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DE37F-1123-4D8A-A4F4-FA33CDA52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D90C8-E25D-45EF-BA11-56CD003AE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00507-8D7C-48EB-9211-49269B3B9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F80F-0F98-43C6-88EF-0EACCE309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90D7F-7AC4-4A16-829F-2DDC6345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18AB9-3A17-4FB4-A912-31B07D46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BEF08-AC9C-4AF9-AC1D-32E3D4242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89493-0B02-4B51-9EA2-4B4022C45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6632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284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936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54802-8277-4BDD-89C1-2C0E30149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8FC0-E03F-4043-9AC6-89E6FCE4F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206A-3365-4BB5-8477-02DF5A006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42EE-E182-4D87-9A2F-11E5F0BAD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6E89-F11E-4B53-BFEB-7F8E03E89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3AFE-0DD5-421D-ADBA-3F95D08BD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A35F-093F-45EB-848C-24DBFDE29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8A1C-5463-4CF2-B9F1-7872199D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66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286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0BBA9-3084-4DED-AA7D-CD15C6FCD6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36DC0-A657-48A4-9D83-CB3593ACE2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2356920"/>
            <a:ext cx="6140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3333cc"/>
                </a:solidFill>
                <a:latin typeface="HY울릉도M"/>
                <a:ea typeface="HY울릉도M"/>
              </a:rPr>
              <a:t>사회복지의 사상과 역사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411280" y="47239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 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15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장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식민시대의 사회복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7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1476360" y="1268280"/>
            <a:ext cx="6692760" cy="19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공공부조제도의 시행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조선의 경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6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「부조교정」이 최초의 공공부조법이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4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「조선구호령」에 의해 대체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본의 경우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874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최초의 구빈법인 휼구규칙이 제정되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4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 구호법이 제정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0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Box 7"/>
          <p:cNvSpPr/>
          <p:nvPr/>
        </p:nvSpPr>
        <p:spPr>
          <a:xfrm>
            <a:off x="1476360" y="1268280"/>
            <a:ext cx="66927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실업문제와 취로사업 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: ‘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궁민구제토목사업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’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본에서 구호법이 시행되기 시작하던 시기에 조선에서 시행된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궁민구제토목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주목할 만한 사업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부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까지 시행된 농촌의 인프라 정비와 취로사업이라는 두 개의 목적을 가진 사업이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다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조선인 노동자는 일본인 노동자의 절반 정도의 임금을 받는 등의 차별처우가 여전히 있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사업 자체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간의 단기사업이었다는 한계가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3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Box 7"/>
          <p:cNvSpPr/>
          <p:nvPr/>
        </p:nvSpPr>
        <p:spPr>
          <a:xfrm>
            <a:off x="1476360" y="1268280"/>
            <a:ext cx="6692760" cy="49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구빈행정의 정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이후 구휼 및 자선사업은 총독부의 지방국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지방과에서 담당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7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내무국에 사회과가 신설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과가 담당하는 사회사업의 범주에는 사회교육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임시적 사회구제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반사회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경제보호사업 등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포함되어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2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사회과는 내무국에서 학무국으로 개편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때 종래의 구빈방빈부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보건진료부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아동보호부문에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노동보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농촌진흥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자력갱생운동 등의 사회교화사업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급속하게 확장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6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1476360" y="1268280"/>
            <a:ext cx="6692760" cy="18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는 각도에 사회과가 신설되어 전국적인 전달체계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만들어졌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194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는 사회과에서 노동행정사무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분리하여 노무과가 신설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러한 체제가 해방 때까지 이어졌고  한국사회복지전달체계의 기초가 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9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7"/>
          <p:cNvSpPr/>
          <p:nvPr/>
        </p:nvSpPr>
        <p:spPr>
          <a:xfrm>
            <a:off x="1476360" y="1268280"/>
            <a:ext cx="6692760" cy="45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국가시설운영과 민간시설보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상의 공공전달체계와는 별도로 총독부 직속사업으로서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6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생원규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에 의해 제생원이 설치되어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양육부와 맹아부로 나누어서 아동과 장애아동을 보호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개항 이후 조선에는 선교사들이 중심이된 다수의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시설이 설립되어 있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러한 복지실천에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대해서는 정부보조금이 지급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보조금제도를 활용하여 민간에 복지사업을 위탁하게 하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형식은 사회복지시설의 운영에 국한된 것이 아니라 일시적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사업에 있어서도 행해짐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2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7"/>
          <p:cNvSpPr/>
          <p:nvPr/>
        </p:nvSpPr>
        <p:spPr>
          <a:xfrm>
            <a:off x="1476360" y="1268280"/>
            <a:ext cx="6692760" cy="41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방면위원제도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제도의 기원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7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오카야마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세고문제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오사카부방면위원규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에 근거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방면위원은 민간독지가의 신분으로서 빈곤자의 생활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조사하고 필요한 원조를 제공하였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배경에 자본주의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모순에 의한 사회불안이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방면위원의 임무는 지역 내의 빈곤생활자 조사를 위시하여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문제와 관련된 제반 조사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5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Box 7"/>
          <p:cNvSpPr/>
          <p:nvPr/>
        </p:nvSpPr>
        <p:spPr>
          <a:xfrm>
            <a:off x="1476360" y="1268280"/>
            <a:ext cx="669276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사회복지의 기반과 유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커밍스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2012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는 일제가 남긴 것으로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비교적 잘 발달된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교통망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세계시장시스템과 조선을 연결시킨 것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근대적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기술을 가진 인력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고도로 체계화된 관료조직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을 들고 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중에서도 중요한 것은 조직된 관료조직과 기본교육의 보급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제도의 기반에 관한 부분에서는 호적제도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확립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백정의 신분도 호적을 갖게 됨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미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경제영역에서는 자본주의적 경제질서가 강화되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유재산제도가 정착되어 갔으며 사법의 영역에서는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법치적 문화가 강화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8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1476360" y="1268280"/>
            <a:ext cx="6692760" cy="45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잔여적 복지모형과 사회복지의 새로운 시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의 복제실천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바람직한 복지실천의 모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을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시하지 못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결국 그것을 통하여 선별주의적이고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잔여적인 복지모델을 한국 사회에 이식하는 결과를 가져옴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※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복지제도의 발전이라고 볼 수 있는 변화의 조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첫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문제에 대한 새로운 대처방식이 시도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둘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문제에 대한 과학적인 조사가 진척되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빈곤이나 장애인문제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주택문제 등에 관한 기초자료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축적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20920" y="2572920"/>
            <a:ext cx="613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HY울릉도M"/>
                <a:ea typeface="HY울릉도M"/>
              </a:rPr>
              <a:t>Thank you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411280" y="47239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HY울릉도M"/>
                <a:ea typeface="HY울릉도M"/>
              </a:rPr>
              <a:t>-Next-</a:t>
            </a:r>
            <a:r>
              <a:rPr b="0" lang="ko-KR" sz="3200" spc="-1" strike="noStrike">
                <a:solidFill>
                  <a:srgbClr val="ff0000"/>
                </a:solidFill>
                <a:latin typeface="HY울릉도M"/>
                <a:ea typeface="HY울릉도M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16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장 미군정기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한국전쟁과 사회복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2" name="제목 1"/>
          <p:cNvSpPr/>
          <p:nvPr/>
        </p:nvSpPr>
        <p:spPr>
          <a:xfrm>
            <a:off x="1432080" y="360360"/>
            <a:ext cx="7407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다룰 내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부제목 2"/>
          <p:cNvSpPr/>
          <p:nvPr/>
        </p:nvSpPr>
        <p:spPr>
          <a:xfrm>
            <a:off x="1432080" y="1700280"/>
            <a:ext cx="758952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연속성과 단절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5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1476360" y="1268280"/>
            <a:ext cx="6692760" cy="31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 직전의 조선사회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시기 민중의 생활은 극도로 피폐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삼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三政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 문란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紊亂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이 시대의 사회상을 적나라하게 보여주며 농사에 대한 세금과 군역의 의무에 관해서 관리들은 온갖 구실을 붙여서 법으로 정해진 세금 이상의 부담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민중에 지웠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양반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민중의 피를 빨아먹는 기생충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라고 표현한 서양인 여행자의 표현은 오히려 자비스러울 정도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8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1476360" y="1268280"/>
            <a:ext cx="6692760" cy="26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근대화론과 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‘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개발 없는 개발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’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의 검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9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을 전후하여 한국에서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근대화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제기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논의는 식민지수탈론자들에 의한 역사왜곡을 지적하고 지나친 그들의 민족주의적 관점을 비판하여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안이하고 감정적인 역사연구의 경향에 경종을 울렸다는 점에서는 의미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있는 논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1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1476360" y="1268280"/>
            <a:ext cx="6692760" cy="31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※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사회복지의 시각에서 볼 때 식민지근대화론자의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   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주장에 받아들이기 어려운 논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첫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공리주의적이라는 점에서 비판의 여지가 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둘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산업혁명에 관한 토인비와 아슈톤의 논쟁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연상시키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의 상태는 반드시 통계자료에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해서는 증명하기 어려운 무엇이 있다는 중요한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실을 그 논쟁이 상기시켜주기 때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4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1476360" y="1268280"/>
            <a:ext cx="6692760" cy="37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토지조사와 그 영향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부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까지 일제는 막대한 자금과 인력을 투입하여 식민지조선에 대한 대대적이고 철저한            토지조사를 실시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b050"/>
                </a:solidFill>
                <a:latin typeface="HY울릉도M"/>
                <a:ea typeface="HY울릉도M"/>
              </a:rPr>
              <a:t>토지조사의 목적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식민지를 상대로 한 토지조사이므로 그 것이 넓은 의미에서 수탈을 위한 조사였다는 것은 명약관화한 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지소유를 명확하게 하고 소유자에게 법적인 권리를 부여하는 것은 근대자본주의의 근간을 이루는 사유권 절대의 원칙이 실현된 것으로 볼 수 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현실적으로 볼 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지조사는 식민통치의 재원이 되는 토지세를 확보하기 위한 조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7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1476360" y="1268280"/>
            <a:ext cx="6692760" cy="22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빈곤의 심화와 소작농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경제적 배경으로 발생하는 빈곤으로서 중시할 것은 소작농의 급증과 도시빈민층의 형성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 한국의 소작농은 세계에서도 유례를 찾아보기 힘든 극도의 착취와 비참한 생활을 하였다고 지적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1187280" y="3429000"/>
            <a:ext cx="737712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1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1476360" y="1268280"/>
            <a:ext cx="66927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토막민문제에 관하여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대 이후 도시빈곤의 상징과 같은 것이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막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 존재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막민은 단순한 빈곤층의 생성이라는 것뿐 아니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한국 사회의 전통적인 주거의 열악성을 상징하는 것으로 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의 토지조사가 끝나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대가 되면 몰락한 농민이 농촌을 떠나게 되면서 토막민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집단주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가 형성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4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1476360" y="1268280"/>
            <a:ext cx="669276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시대의 시기구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①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무단통치기간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(1910~191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②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문화정치기간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(1920~193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③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대륙침략병참기지기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은사금이라는 사회복지 재원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b050"/>
                </a:solidFill>
                <a:latin typeface="HY울릉도M"/>
                <a:ea typeface="HY울릉도M"/>
              </a:rPr>
              <a:t>은사금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직접 사업비로 사용하는 것이 아니라 그것을 기금으로 삼고 그 이자수입으로 사업비를 충당하는 형식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사금의 용도 중 가장 큰 몫을 차지하는 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수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授産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과 교육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기근구제의 항목인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항목은 사회복지사업과 직접적으로 관련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1T04:24:23Z</dcterms:created>
  <dc:creator>LG</dc:creator>
  <dc:description/>
  <dc:language>en-US</dc:language>
  <cp:lastModifiedBy>LG</cp:lastModifiedBy>
  <dcterms:modified xsi:type="dcterms:W3CDTF">2014-03-18T07:35:34Z</dcterms:modified>
  <cp:revision>539</cp:revision>
  <dc:subject/>
  <dc:title>사회복지의 사상과 역사</dc:title>
</cp:coreProperties>
</file>